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4964DFD-6258-4285-AD27-F5153B091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37A0194-930A-40BB-A243-F3F8A2AA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2938B0-057C-4B97-A82E-5C8A0D59E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E9714B5-4808-426D-B940-83DEFE763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2036FFA-7BBA-48B2-8E67-EED929B92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FDBA81E-4FD6-4F71-A167-4F0663B98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3504A1B-940A-4110-8B96-C96AFE432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1F0EB43-AC1E-49DA-AB6C-41771680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060840B-7891-4027-B263-EDD8BB2FF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8FB890-8896-4502-961C-E1941FAF4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13E6281-5386-4D98-B128-0CED91403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9D181AB-5911-4D6F-894F-2A2634935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1926D0C-E282-45EE-8CFB-9B86B051F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5CB-C5DC-4697-9A74-FE4F98FF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5CB-CAF4-4ED6-ACF5-BC3CC1B0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67E-4E5E-49D5-A756-9033CA92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BA3-4BC6-45EE-BAE6-F058E23E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047-70FC-42EF-9EEE-0C1E35D5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628-F322-41FB-A50C-8AADB5BB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564-4A91-4B6E-A9DF-15CD3784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429-0246-4823-B6DB-0809AE8E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25A-F1EB-4288-A388-A5F56CA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44F-EAA2-4CF5-82E5-6A36FC8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86E-B916-462B-A220-F2BBD43A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9A6-2893-458A-B789-EA720F2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1AC4-5408-4B00-9470-85F90EBBF3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14BE-6DD3-4626-A284-E9B2A0557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1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003399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ne Hyatt Tho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puty 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yne H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05120" y="12193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5181480"/>
            <a:ext cx="5257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B968-2FA7-495E-9728-026F2646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ublic Report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formation will be driven in large part by measure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re some measures more suitable for public accountability or informed consumer choice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8535-8F9C-4B94-8025-1D0C1B70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resource use information be provided confidentially or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resource use information were publicly re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quality and resource use information be reporte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resource use information be fra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might patients perceive and use the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A869-56E6-42A4-9B25-CECDCA4D9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public reporting use the scoring used in determining incentive pay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ll performance measurement results be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037F-83D4-4EA2-B50A-1B3D0B46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compo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numbers or st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ny information be supp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benchma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trending informatio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8DAC-2920-491F-9598-2300E252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E96A-C9FA-47D1-89F5-4B6171DBA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64C-B97D-4BD6-AFAC-9FA099B2B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ster greater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rove quality and 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more informed decision-making by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quality and efficiency assessment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improved care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A73D-84FC-4D29-9FF6-EDF89B39C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VBP public reporting will build upon CMS’ current public reporting efforts and be modeled after existing Compar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has multiple audiences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atients (benefici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tients and their friends &amp;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s and other profess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39B7-A85C-4EA8-BDBA-18BEDD2DC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are designed and tested to insure that physicians, patients, their caregivers, and others understand and can use them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will use performance and other relevant information to help physicians, patients, and other stakeholders in their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4BC3-4547-45CB-9208-4C3F6753E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ed Value Ex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ture Physician Compar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A6A-E3B6-4CD4-97F0-2C3168BDE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urrent Physician Dire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3125" r="3127" b="18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CF50-48C1-42DB-AFB8-FA1875DEC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Hospital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4688" t="9376" r="4688" b="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EAD8-0C5B-4D73-8F90-875484AC0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oup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pul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is most actionable for beneficiaries, physicians and other providers, the Medicare program, and other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best supports improved care coordination and reflects how beneficiaries receive ca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1:45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35284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